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jpeg" ContentType="image/jpeg"/>
  <Override PartName="/ppt/media/image22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7A7F8-6F60-434D-B6B4-60662C1861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C8D57-0931-4431-9BC6-F14EC40CEEF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4F3-AFE7-4E0D-88F9-15975D48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986B-17EE-4221-B15E-CB09F689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4AF9-35D4-4607-8C80-4EA256C9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4BB-F153-4B79-AD88-2A0C848F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9C3C-73C1-45A5-BFFC-88DAD8BC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922-96B7-4ACD-81C5-04AEF00C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F2C-1EBA-44D1-874D-0ABF4FC9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1242-1A93-4AAD-BDB3-E7D912C0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06E-BA96-401B-A663-DA3091E8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7BAE-5BE3-4EB4-BAEE-DC3F9E08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C69-8AAE-4F82-B3C4-38832008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1F00-177D-4671-9F77-D747A619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6725E-5470-4FFA-AF2E-8FE5DEEEEA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"/>
          <p:cNvPicPr/>
          <p:nvPr/>
        </p:nvPicPr>
        <p:blipFill>
          <a:blip r:embed="rId1"/>
          <a:srcRect l="3227" t="2607" r="2659" b="3995"/>
          <a:stretch/>
        </p:blipFill>
        <p:spPr>
          <a:xfrm>
            <a:off x="2770200" y="2255760"/>
            <a:ext cx="3941640" cy="328932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1027080" y="905040"/>
            <a:ext cx="7454880" cy="1180800"/>
            <a:chOff x="1027080" y="905040"/>
            <a:chExt cx="7454880" cy="1180800"/>
          </a:xfrm>
        </p:grpSpPr>
        <p:sp>
          <p:nvSpPr>
            <p:cNvPr id="65" name="Text Box 2"/>
            <p:cNvSpPr/>
            <p:nvPr/>
          </p:nvSpPr>
          <p:spPr>
            <a:xfrm>
              <a:off x="2286000" y="1011240"/>
              <a:ext cx="6195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“</a:t>
              </a: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真美”与“真糟”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1027080" y="905040"/>
              <a:ext cx="1180800" cy="1180800"/>
              <a:chOff x="102708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102708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124992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7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母亲看到“我”写的诗后，是怎样的表现？又是如何评价的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"/>
          <p:cNvSpPr/>
          <p:nvPr/>
        </p:nvSpPr>
        <p:spPr>
          <a:xfrm>
            <a:off x="1228680" y="370836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母亲对“我”第一次写的诗赞不绝口，并且边读边嚷了起来。母亲的评价是“真美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内容占位符 2"/>
          <p:cNvSpPr/>
          <p:nvPr/>
        </p:nvSpPr>
        <p:spPr>
          <a:xfrm>
            <a:off x="625320" y="1650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我”在等待父亲时有何表现？体现了“我”怎样的心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925560" y="2905200"/>
            <a:ext cx="754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首先，“我”用花字体将诗好好地重新抄写了一遍，接着再用彩笔画上花边，最后，“我”将诗稿放在餐桌上爸爸的盘子里。体现了“我”的慎重，表现了“我”对爸爸的重视，也说明了“我”十分渴望得到爸爸的表扬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内容占位符 2"/>
          <p:cNvSpPr/>
          <p:nvPr/>
        </p:nvSpPr>
        <p:spPr>
          <a:xfrm>
            <a:off x="773280" y="1805040"/>
            <a:ext cx="7781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父亲是如何评价“我”写的诗的？“我”又是怎样表现的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068480" y="3084480"/>
            <a:ext cx="740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父亲的评价是：“依我看，诗写得很糟！”“我”的表现是：“我”抬不起头来，眼中顿时涌出了泪花；从餐厅跑回卧室，一头扑倒在床上，痛苦地呜咽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内容占位符 2"/>
          <p:cNvSpPr/>
          <p:nvPr/>
        </p:nvSpPr>
        <p:spPr>
          <a:xfrm>
            <a:off x="790560" y="17017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我”后来从这件事中得到了怎样的感悟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1119240" y="246708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生活中的每一个人都既需要鼓励，又需要警告。不但要接受别人的赞扬，还要接受别人的批评，把它当作自己前进的动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7"/>
          <p:cNvSpPr/>
          <p:nvPr/>
        </p:nvSpPr>
        <p:spPr>
          <a:xfrm>
            <a:off x="1874880" y="3009960"/>
            <a:ext cx="16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真美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8"/>
          <p:cNvSpPr/>
          <p:nvPr/>
        </p:nvSpPr>
        <p:spPr>
          <a:xfrm>
            <a:off x="3782160" y="3930480"/>
            <a:ext cx="1400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巴德的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4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27" name="直接箭头连接符 7"/>
          <p:cNvCxnSpPr>
            <a:endCxn id="120" idx="2"/>
          </p:cNvCxnSpPr>
          <p:nvPr/>
        </p:nvCxnSpPr>
        <p:spPr>
          <a:xfrm flipH="1" flipV="1">
            <a:off x="2709000" y="3569400"/>
            <a:ext cx="847080" cy="6217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8" name="直接箭头连接符 16"/>
          <p:cNvCxnSpPr/>
          <p:nvPr/>
        </p:nvCxnSpPr>
        <p:spPr>
          <a:xfrm flipV="1">
            <a:off x="5418000" y="3628800"/>
            <a:ext cx="829440" cy="5515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9" name="直接箭头连接符 19"/>
          <p:cNvCxnSpPr/>
          <p:nvPr/>
        </p:nvCxnSpPr>
        <p:spPr>
          <a:xfrm flipH="1">
            <a:off x="2736000" y="4703760"/>
            <a:ext cx="808920" cy="55908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30" name="直接箭头连接符 21"/>
          <p:cNvCxnSpPr/>
          <p:nvPr/>
        </p:nvCxnSpPr>
        <p:spPr>
          <a:xfrm>
            <a:off x="5420880" y="4691160"/>
            <a:ext cx="826200" cy="53568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1" name="矩形 17"/>
          <p:cNvSpPr/>
          <p:nvPr/>
        </p:nvSpPr>
        <p:spPr>
          <a:xfrm>
            <a:off x="5841360" y="305928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真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8"/>
          <p:cNvSpPr/>
          <p:nvPr/>
        </p:nvSpPr>
        <p:spPr>
          <a:xfrm>
            <a:off x="6104160" y="511668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严厉批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20"/>
          <p:cNvSpPr/>
          <p:nvPr/>
        </p:nvSpPr>
        <p:spPr>
          <a:xfrm>
            <a:off x="2001960" y="51339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赞扬鼓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26"/>
          <p:cNvSpPr/>
          <p:nvPr/>
        </p:nvSpPr>
        <p:spPr>
          <a:xfrm>
            <a:off x="2279880" y="2379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母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27"/>
          <p:cNvSpPr/>
          <p:nvPr/>
        </p:nvSpPr>
        <p:spPr>
          <a:xfrm>
            <a:off x="6068880" y="24163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父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内容占位符 2"/>
          <p:cNvSpPr/>
          <p:nvPr/>
        </p:nvSpPr>
        <p:spPr>
          <a:xfrm>
            <a:off x="934920" y="240516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讲的是作者童年时写了一首诗，得到了父亲和母亲截然不同的评价，这两种评价对他产生了巨大影响，使作者感悟到父母不同形式的爱，也体现了作者对父母的感激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8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9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2" name="组合 3"/>
          <p:cNvGrpSpPr/>
          <p:nvPr/>
        </p:nvGrpSpPr>
        <p:grpSpPr>
          <a:xfrm>
            <a:off x="558720" y="905040"/>
            <a:ext cx="2594160" cy="666720"/>
            <a:chOff x="558720" y="905040"/>
            <a:chExt cx="2594160" cy="666720"/>
          </a:xfrm>
        </p:grpSpPr>
        <p:sp>
          <p:nvSpPr>
            <p:cNvPr id="143" name="圆角矩形 4"/>
            <p:cNvSpPr/>
            <p:nvPr/>
          </p:nvSpPr>
          <p:spPr>
            <a:xfrm>
              <a:off x="1374840" y="10429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90504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16"/>
            <p:cNvSpPr/>
            <p:nvPr/>
          </p:nvSpPr>
          <p:spPr>
            <a:xfrm>
              <a:off x="1634040" y="106200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内容占位符 2"/>
          <p:cNvSpPr/>
          <p:nvPr/>
        </p:nvSpPr>
        <p:spPr>
          <a:xfrm>
            <a:off x="677880" y="1413000"/>
            <a:ext cx="7883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鼾 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马一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因公因私，我已好几年没回故乡了。忙忙乱乱地行走在城市的街头，几乎忘记了独自生活在乡村老屋里的老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前不久，家乡的表哥写信告诉我，父亲蹲在村口路边守望的身躯像是一块坚硬的石头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看到这里，我的泪水滚了出来，连忙推去所有事务，一刻不敢停留地往故乡赶。在村口的路边，父亲终于看到他风尘仆仆的儿子出现在回家的路上。他站起来，搓着那双大手嘿嘿地笑着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吃过简简单单的晚饭，唠过一阵子平平常常的家常，窗外夜风起处虫鸣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内容占位符 2"/>
          <p:cNvSpPr/>
          <p:nvPr/>
        </p:nvSpPr>
        <p:spPr>
          <a:xfrm>
            <a:off x="538200" y="1001880"/>
            <a:ext cx="803736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打了个呵欠说：“爸，咱睡吧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父亲的眼中露出难色，他说：“嗯，睡吧。”随后又站起身往门外走，“我爱打鼾，怕吵你睡觉，我找人搭铺去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拦住他笑说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爸，我是你的崽，像你，也打鼾，你不是不知道，两只喇叭一块儿吹，热闹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父亲不好意思地笑了一声，开始脱鞋宽衣。于是，我跳上了那张自己睡了十几年的破旧、宽大而又温暖的床。跟以前一样，父亲睡那头，我睡这头，彼此枕着一双臭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月亮在窗外移，树梢遥动，筛下一床碎银。但听不到那熟悉、亲切的鼾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父亲在那头说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不早了，睡吧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在这头应道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睡吧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内容占位符 2"/>
          <p:cNvSpPr/>
          <p:nvPr/>
        </p:nvSpPr>
        <p:spPr>
          <a:xfrm>
            <a:off x="681120" y="1160640"/>
            <a:ext cx="791028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月亮从窗口消失，鸡啼在村庄远远近近的地方响起，床上仍然没有那亲切的鼾声。记得以前与父亲同寝时，在田头地尾劳累了一天的父亲头沾枕头就睡过去，鼾声惊天动地，吵得我无法入眠，就恼怒异常地用脚踹醒他，叫他熬着等我睡去后他再睡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想到这里我的心好痛。于是，就装作打鼾，打得既重又急，仿佛睡得极香极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父亲在那头轻轻地侧了侧身，并欣慰地舒了一口气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随后，我发现父亲轻轻地起来，轻轻地给我掖被角，最后，父亲竟用手轻轻地摸我的脸。当那粗糙而又温暖的手在我脸上划过时，我嗅到了一种特别的气息。鼻子一酸，泪水便滚出了眼眶。父亲的手一抖，替我抹去泪水，叹了一声说：“鸡都叫了，睡吧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哽咽着答道：“睡吧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"/>
          <p:cNvPicPr/>
          <p:nvPr/>
        </p:nvPicPr>
        <p:blipFill>
          <a:blip r:embed="rId1"/>
          <a:stretch/>
        </p:blipFill>
        <p:spPr>
          <a:xfrm>
            <a:off x="1017720" y="2303640"/>
            <a:ext cx="7211880" cy="3592440"/>
          </a:xfrm>
          <a:prstGeom prst="rect">
            <a:avLst/>
          </a:prstGeom>
          <a:ln w="0">
            <a:noFill/>
          </a:ln>
        </p:spPr>
      </p:pic>
      <p:sp>
        <p:nvSpPr>
          <p:cNvPr id="150" name="矩形 1"/>
          <p:cNvSpPr/>
          <p:nvPr/>
        </p:nvSpPr>
        <p:spPr>
          <a:xfrm>
            <a:off x="1063800" y="2382840"/>
            <a:ext cx="7234200" cy="2349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哀哀父母，生我劬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qú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劳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诗经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头老母遮门啼，挽断衫袖留不止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谁氏子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韩愈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搴帷拜母河梁去，白发愁看泪眼枯。惨惨柴门风雪夜，此时有子不如无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别老母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黄景仁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2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11080" y="254160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感情的朗读课文，从父母对孩子的不同评价中体会父母不同方式的爱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、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"/>
          <p:cNvSpPr/>
          <p:nvPr/>
        </p:nvSpPr>
        <p:spPr>
          <a:xfrm>
            <a:off x="1487880" y="2158920"/>
            <a:ext cx="12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曾子杀猪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1185840" y="2652840"/>
            <a:ext cx="70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一次，曾子的妻子准备去赶集，由于孩子哭闹不已，就许诺孩子回来后杀猪给他吃。曾子妻从集市上回来后，曾子便捉猪来杀。妻子阻止说：“我不过是跟孩子说着玩的。”曾子说：“和孩子不可说着玩。小孩子凡事都跟父母学，现在你哄骗他，就是教孩子骗人啊。”于是曾子把猪杀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58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示 7" descr=""/>
          <p:cNvPicPr/>
          <p:nvPr/>
        </p:nvPicPr>
        <p:blipFill>
          <a:blip r:embed="rId1"/>
          <a:stretch/>
        </p:blipFill>
        <p:spPr>
          <a:xfrm>
            <a:off x="689040" y="1023840"/>
            <a:ext cx="3090960" cy="1474920"/>
          </a:xfrm>
          <a:prstGeom prst="rect">
            <a:avLst/>
          </a:prstGeom>
          <a:ln w="0">
            <a:noFill/>
          </a:ln>
        </p:spPr>
      </p:pic>
      <p:sp>
        <p:nvSpPr>
          <p:cNvPr id="162" name="矩形 11"/>
          <p:cNvSpPr/>
          <p:nvPr/>
        </p:nvSpPr>
        <p:spPr>
          <a:xfrm>
            <a:off x="804960" y="2205000"/>
            <a:ext cx="762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这篇课文，我们知道父母对孩子的爱的表现形式是多样的。作者并没有因为母亲的赞美而自我陶醉，也没有因为父亲的批评而丧失信心。这个故事告诉我们，应该正确对待表扬和批评，面对荣誉不要自大、骄傲，面对挫折不要气馁、绝望，要清楚地看到自己的不足，不断努力，才能获得成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6480" y="768240"/>
            <a:ext cx="4309920" cy="1243080"/>
          </a:xfrm>
          <a:prstGeom prst="rect">
            <a:avLst/>
          </a:prstGeom>
          <a:ln w="0">
            <a:noFill/>
          </a:ln>
        </p:spPr>
      </p:pic>
      <p:grpSp>
        <p:nvGrpSpPr>
          <p:cNvPr id="164" name="组合 7"/>
          <p:cNvGrpSpPr/>
          <p:nvPr/>
        </p:nvGrpSpPr>
        <p:grpSpPr>
          <a:xfrm>
            <a:off x="625320" y="1657440"/>
            <a:ext cx="7966080" cy="1177920"/>
            <a:chOff x="625320" y="1657440"/>
            <a:chExt cx="7966080" cy="1177920"/>
          </a:xfrm>
        </p:grpSpPr>
        <p:sp>
          <p:nvSpPr>
            <p:cNvPr id="165" name="圆角矩形 7"/>
            <p:cNvSpPr/>
            <p:nvPr/>
          </p:nvSpPr>
          <p:spPr>
            <a:xfrm>
              <a:off x="625320" y="2174760"/>
              <a:ext cx="7966080" cy="660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>
                <a:lnSpc>
                  <a:spcPct val="150000"/>
                </a:lnSpc>
                <a:spcAft>
                  <a:spcPts val="414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朗读时，注意爸爸与妈妈的不同语气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6" name="组合 9"/>
            <p:cNvGrpSpPr/>
            <p:nvPr/>
          </p:nvGrpSpPr>
          <p:grpSpPr>
            <a:xfrm>
              <a:off x="715320" y="1657440"/>
              <a:ext cx="1593720" cy="678240"/>
              <a:chOff x="715320" y="1657440"/>
              <a:chExt cx="1593720" cy="678240"/>
            </a:xfrm>
          </p:grpSpPr>
          <p:sp>
            <p:nvSpPr>
              <p:cNvPr id="167" name="任意多边形 9"/>
              <p:cNvSpPr/>
              <p:nvPr/>
            </p:nvSpPr>
            <p:spPr>
              <a:xfrm>
                <a:off x="1132560" y="1749600"/>
                <a:ext cx="1176480" cy="4932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964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朗读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68" name="椭圆 10"/>
              <p:cNvGrpSpPr/>
              <p:nvPr/>
            </p:nvGrpSpPr>
            <p:grpSpPr>
              <a:xfrm>
                <a:off x="715320" y="1657440"/>
                <a:ext cx="700560" cy="678240"/>
                <a:chOff x="715320" y="1657440"/>
                <a:chExt cx="700560" cy="678240"/>
              </a:xfrm>
            </p:grpSpPr>
            <p:pic>
              <p:nvPicPr>
                <p:cNvPr id="169" name="椭圆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5320" y="1657440"/>
                  <a:ext cx="700560" cy="67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828000" y="1764360"/>
                  <a:ext cx="474840" cy="46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71" name="TextBox 2"/>
          <p:cNvSpPr/>
          <p:nvPr/>
        </p:nvSpPr>
        <p:spPr>
          <a:xfrm>
            <a:off x="609480" y="2979720"/>
            <a:ext cx="829800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朗读本文，重点是读好爸爸与妈妈的话，注意区分不同人物的语气。这需要揣摩他们各自的心理，体会他们面对同一首诗，评价为什么会截然不同，然后读出母亲的兴奋、赞美与父亲的严肃、果断。另外，要注意读出“我”的情绪变化，由开始的骄傲，到盼望父亲回来的急切，到最后涌出泪花，痛苦地呜咽，要读出不同的语气，读出起伏。朗读本文的最后两个自然段时，语速要缓慢，要读得意味深长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3"/>
          <p:cNvGrpSpPr/>
          <p:nvPr/>
        </p:nvGrpSpPr>
        <p:grpSpPr>
          <a:xfrm>
            <a:off x="746280" y="1209600"/>
            <a:ext cx="7661160" cy="1256760"/>
            <a:chOff x="746280" y="1209600"/>
            <a:chExt cx="7661160" cy="1256760"/>
          </a:xfrm>
        </p:grpSpPr>
        <p:grpSp>
          <p:nvGrpSpPr>
            <p:cNvPr id="173" name="组合 6"/>
            <p:cNvGrpSpPr/>
            <p:nvPr/>
          </p:nvGrpSpPr>
          <p:grpSpPr>
            <a:xfrm>
              <a:off x="760680" y="1326960"/>
              <a:ext cx="7646760" cy="1139400"/>
              <a:chOff x="760680" y="1326960"/>
              <a:chExt cx="7646760" cy="1139400"/>
            </a:xfrm>
          </p:grpSpPr>
          <p:sp>
            <p:nvSpPr>
              <p:cNvPr id="174" name="圆角矩形 10"/>
              <p:cNvSpPr/>
              <p:nvPr/>
            </p:nvSpPr>
            <p:spPr>
              <a:xfrm>
                <a:off x="760680" y="1754640"/>
                <a:ext cx="7646760" cy="711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.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父母对“我”的第一首诗各有什么看法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任意多边形 11"/>
              <p:cNvSpPr/>
              <p:nvPr/>
            </p:nvSpPr>
            <p:spPr>
              <a:xfrm>
                <a:off x="1120320" y="1326960"/>
                <a:ext cx="2261160" cy="501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76" name="Picture 2" descr=""/>
            <p:cNvPicPr/>
            <p:nvPr/>
          </p:nvPicPr>
          <p:blipFill>
            <a:blip r:embed="rId1"/>
            <a:stretch/>
          </p:blipFill>
          <p:spPr>
            <a:xfrm>
              <a:off x="746280" y="1209600"/>
              <a:ext cx="808920" cy="73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2"/>
          <p:cNvSpPr/>
          <p:nvPr/>
        </p:nvSpPr>
        <p:spPr>
          <a:xfrm>
            <a:off x="876240" y="3035160"/>
            <a:ext cx="769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母亲的看法是“真美”，母爱是慈祥的，她赞美的是儿子写诗的行为；父亲的看法是“很糟”，父爱是严厉的，他批评的是诗的质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13"/>
          <p:cNvGrpSpPr/>
          <p:nvPr/>
        </p:nvGrpSpPr>
        <p:grpSpPr>
          <a:xfrm>
            <a:off x="482760" y="1000080"/>
            <a:ext cx="7904160" cy="1183320"/>
            <a:chOff x="482760" y="1000080"/>
            <a:chExt cx="7904160" cy="1183320"/>
          </a:xfrm>
        </p:grpSpPr>
        <p:grpSp>
          <p:nvGrpSpPr>
            <p:cNvPr id="179" name="组合 6"/>
            <p:cNvGrpSpPr/>
            <p:nvPr/>
          </p:nvGrpSpPr>
          <p:grpSpPr>
            <a:xfrm>
              <a:off x="495720" y="1115280"/>
              <a:ext cx="7891200" cy="1068120"/>
              <a:chOff x="495720" y="1115280"/>
              <a:chExt cx="7891200" cy="1068120"/>
            </a:xfrm>
          </p:grpSpPr>
          <p:sp>
            <p:nvSpPr>
              <p:cNvPr id="180" name="圆角矩形 15"/>
              <p:cNvSpPr/>
              <p:nvPr/>
            </p:nvSpPr>
            <p:spPr>
              <a:xfrm>
                <a:off x="495720" y="1522800"/>
                <a:ext cx="7891200" cy="660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2. 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面对爸爸的批评，“我”有怎样的表现？你怎样理解？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任意多边形 16"/>
              <p:cNvSpPr/>
              <p:nvPr/>
            </p:nvSpPr>
            <p:spPr>
              <a:xfrm>
                <a:off x="855360" y="1115280"/>
                <a:ext cx="2261520" cy="501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964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2" name="Picture 2" descr=""/>
            <p:cNvPicPr/>
            <p:nvPr/>
          </p:nvPicPr>
          <p:blipFill>
            <a:blip r:embed="rId1"/>
            <a:stretch/>
          </p:blipFill>
          <p:spPr>
            <a:xfrm>
              <a:off x="482760" y="1000080"/>
              <a:ext cx="803160" cy="73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TextBox 2"/>
          <p:cNvSpPr/>
          <p:nvPr/>
        </p:nvSpPr>
        <p:spPr>
          <a:xfrm>
            <a:off x="663480" y="2206800"/>
            <a:ext cx="832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对爸爸的批评，“我”抬不起头来，眼中顿时涌出了泪花。从餐厅跑回卧室，一头扑倒在床上，痛苦地呜咽着。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我”写诗再也不敢给爸爸看了。“我”的表现 合情合理，因为开始“我”听了母亲的赞美，还 不知道自己写得很糟，心里是很希望得到像 母亲一样的鼓励的，事实恰恰相反，父亲非但没有鼓励，反而说“很糟”，所以“我”很难过。但“我”没有灰心失望，而是继续写作，几年之后才体会到自己的“第一首诗”真的很糟糕，觉得父亲的评价是公正、客观的。“我”于是不斯努力，坚持写作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并再次拿给父亲评价。可见作者 很看重父亲对他作品的看法，并将父亲对他的评价作为一种动力，推动自己前进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582480" y="2768760"/>
            <a:ext cx="78580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母亲的表扬是对“我” 的鼓励，是她给“我”带来了写作的力量，成为“我”灵感和创作的源泉。父袭的批评是在提 醒“我”不要骄傲、自满，不断发现问题并加以改正这两者的结合，成就了“我”，使“我”成 为一名作家，也使“我”学会了怎样正确地看 待肯定与否定，使“我”学会了“竭尽全力在这 两股强风中驾稳我的风帆”。不管是肯定还是否定，都源于父母深深的爱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组合 13"/>
          <p:cNvGrpSpPr/>
          <p:nvPr/>
        </p:nvGrpSpPr>
        <p:grpSpPr>
          <a:xfrm>
            <a:off x="536400" y="1039680"/>
            <a:ext cx="7904160" cy="1452240"/>
            <a:chOff x="536400" y="1039680"/>
            <a:chExt cx="7904160" cy="1452240"/>
          </a:xfrm>
        </p:grpSpPr>
        <p:grpSp>
          <p:nvGrpSpPr>
            <p:cNvPr id="186" name="组合 6"/>
            <p:cNvGrpSpPr/>
            <p:nvPr/>
          </p:nvGrpSpPr>
          <p:grpSpPr>
            <a:xfrm>
              <a:off x="548640" y="1152720"/>
              <a:ext cx="7891920" cy="1339200"/>
              <a:chOff x="548640" y="1152720"/>
              <a:chExt cx="7891920" cy="1339200"/>
            </a:xfrm>
          </p:grpSpPr>
          <p:sp>
            <p:nvSpPr>
              <p:cNvPr id="187" name="圆角矩形 5"/>
              <p:cNvSpPr/>
              <p:nvPr/>
            </p:nvSpPr>
            <p:spPr>
              <a:xfrm>
                <a:off x="548640" y="1831320"/>
                <a:ext cx="7891920" cy="660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 marL="361800" indent="-36180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3.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在“我”的成长过程中，“我”的父母截 然相反的评价起到了什么样的作用？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任意多边形 7"/>
              <p:cNvSpPr/>
              <p:nvPr/>
            </p:nvSpPr>
            <p:spPr>
              <a:xfrm>
                <a:off x="908280" y="1152720"/>
                <a:ext cx="2261880" cy="5047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964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9" name="Picture 2" descr=""/>
            <p:cNvPicPr/>
            <p:nvPr/>
          </p:nvPicPr>
          <p:blipFill>
            <a:blip r:embed="rId1"/>
            <a:stretch/>
          </p:blipFill>
          <p:spPr>
            <a:xfrm>
              <a:off x="536400" y="1039680"/>
              <a:ext cx="803160" cy="73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2"/>
          <p:cNvGrpSpPr/>
          <p:nvPr/>
        </p:nvGrpSpPr>
        <p:grpSpPr>
          <a:xfrm>
            <a:off x="735120" y="1619280"/>
            <a:ext cx="7661160" cy="3066120"/>
            <a:chOff x="735120" y="1619280"/>
            <a:chExt cx="7661160" cy="3066120"/>
          </a:xfrm>
        </p:grpSpPr>
        <p:grpSp>
          <p:nvGrpSpPr>
            <p:cNvPr id="191" name="组合 6"/>
            <p:cNvGrpSpPr/>
            <p:nvPr/>
          </p:nvGrpSpPr>
          <p:grpSpPr>
            <a:xfrm>
              <a:off x="735120" y="1720080"/>
              <a:ext cx="7661160" cy="2965320"/>
              <a:chOff x="735120" y="1720080"/>
              <a:chExt cx="7661160" cy="2965320"/>
            </a:xfrm>
          </p:grpSpPr>
          <p:sp>
            <p:nvSpPr>
              <p:cNvPr id="192" name="圆角矩形 20"/>
              <p:cNvSpPr/>
              <p:nvPr/>
            </p:nvSpPr>
            <p:spPr>
              <a:xfrm>
                <a:off x="735120" y="2630880"/>
                <a:ext cx="7661160" cy="2054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读下面的句子，体会破折号的作用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我感到庆幸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--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我从孩提时代起，就既有爱说“真美”的母亲，又有爱说“真糟”的父亲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2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它们就像两股方向相反的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--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我得竭尽全力在这两股强风中驾稳我的风帆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任意多边形 21"/>
              <p:cNvSpPr/>
              <p:nvPr/>
            </p:nvSpPr>
            <p:spPr>
              <a:xfrm>
                <a:off x="990360" y="1720080"/>
                <a:ext cx="2544840" cy="5072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拓展与运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4" name="Picture 7" descr=""/>
            <p:cNvPicPr/>
            <p:nvPr/>
          </p:nvPicPr>
          <p:blipFill>
            <a:blip r:embed="rId1"/>
            <a:stretch/>
          </p:blipFill>
          <p:spPr>
            <a:xfrm>
              <a:off x="798480" y="1619280"/>
              <a:ext cx="749520" cy="65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2"/>
          <p:cNvSpPr/>
          <p:nvPr/>
        </p:nvSpPr>
        <p:spPr>
          <a:xfrm>
            <a:off x="565200" y="1333440"/>
            <a:ext cx="8150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教师点拨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体会破折号的作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首先明确破折号的作用有：解释说明，话题的转换，语意的递进，时间或声音的中止、停顿、延长。另外，破折号还用于连接歇后语，标明文章副标题和作者。其次要反复默读这两句话，用心体会破折号前后两部分的意思有哪些关联，这样就很容易对号入座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表示解释说明，说明了“我”感到庆幸的原因。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表示语意的递进，后半句的意思比前半句更进一步，强调“我”应当保持清醒，体会到这两股风中的关爱与期望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6"/>
          <p:cNvGrpSpPr/>
          <p:nvPr/>
        </p:nvGrpSpPr>
        <p:grpSpPr>
          <a:xfrm>
            <a:off x="782640" y="1211400"/>
            <a:ext cx="7661160" cy="1233000"/>
            <a:chOff x="782640" y="1211400"/>
            <a:chExt cx="7661160" cy="1233000"/>
          </a:xfrm>
        </p:grpSpPr>
        <p:grpSp>
          <p:nvGrpSpPr>
            <p:cNvPr id="197" name="组合 2"/>
            <p:cNvGrpSpPr/>
            <p:nvPr/>
          </p:nvGrpSpPr>
          <p:grpSpPr>
            <a:xfrm>
              <a:off x="782640" y="1341000"/>
              <a:ext cx="7661160" cy="1103400"/>
              <a:chOff x="782640" y="1341000"/>
              <a:chExt cx="7661160" cy="1103400"/>
            </a:xfrm>
          </p:grpSpPr>
          <p:sp>
            <p:nvSpPr>
              <p:cNvPr id="198" name="圆角矩形 13"/>
              <p:cNvSpPr/>
              <p:nvPr/>
            </p:nvSpPr>
            <p:spPr>
              <a:xfrm>
                <a:off x="782640" y="1732680"/>
                <a:ext cx="7661160" cy="711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.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读一读，注意字的读音，理解加点词语的意思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任意多边形 14"/>
              <p:cNvSpPr/>
              <p:nvPr/>
            </p:nvSpPr>
            <p:spPr>
              <a:xfrm>
                <a:off x="1182600" y="1341000"/>
                <a:ext cx="1436400" cy="50508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积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椭圆 12"/>
            <p:cNvGrpSpPr/>
            <p:nvPr/>
          </p:nvGrpSpPr>
          <p:grpSpPr>
            <a:xfrm>
              <a:off x="859320" y="1211400"/>
              <a:ext cx="755640" cy="713160"/>
              <a:chOff x="859320" y="1211400"/>
              <a:chExt cx="755640" cy="713160"/>
            </a:xfrm>
          </p:grpSpPr>
          <p:pic>
            <p:nvPicPr>
              <p:cNvPr id="201" name="椭圆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859320" y="1211400"/>
                <a:ext cx="755640" cy="7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975960" y="1322640"/>
                <a:ext cx="518400" cy="48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3" name="TextBox 15"/>
          <p:cNvSpPr/>
          <p:nvPr/>
        </p:nvSpPr>
        <p:spPr>
          <a:xfrm>
            <a:off x="746280" y="2530440"/>
            <a:ext cx="772956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埋怨（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án  yuàn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  出售（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ū   shòu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糟糕（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āo  gāo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    呜咽（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wū   yè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勉强（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iǎn  gāo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   跋涉（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á   shè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骚扰（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āo  rǎo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呜咽：低声抽泣，也比喻发出使人感到凄切悲伤的声音。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跋涉：翻山越岭，徒步过河，形容长途远行的艰辛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1"/>
          <p:cNvSpPr/>
          <p:nvPr/>
        </p:nvSpPr>
        <p:spPr>
          <a:xfrm>
            <a:off x="1600560" y="411948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8"/>
          <p:cNvSpPr/>
          <p:nvPr/>
        </p:nvSpPr>
        <p:spPr>
          <a:xfrm>
            <a:off x="4270680" y="35942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6"/>
          <p:cNvGrpSpPr/>
          <p:nvPr/>
        </p:nvGrpSpPr>
        <p:grpSpPr>
          <a:xfrm>
            <a:off x="1392120" y="1073160"/>
            <a:ext cx="7669440" cy="2611080"/>
            <a:chOff x="1392120" y="1073160"/>
            <a:chExt cx="7669440" cy="2611080"/>
          </a:xfrm>
        </p:grpSpPr>
        <p:grpSp>
          <p:nvGrpSpPr>
            <p:cNvPr id="207" name="组合 2"/>
            <p:cNvGrpSpPr/>
            <p:nvPr/>
          </p:nvGrpSpPr>
          <p:grpSpPr>
            <a:xfrm>
              <a:off x="1392120" y="1206720"/>
              <a:ext cx="7669440" cy="2477520"/>
              <a:chOff x="1392120" y="1206720"/>
              <a:chExt cx="7669440" cy="2477520"/>
            </a:xfrm>
          </p:grpSpPr>
          <p:sp>
            <p:nvSpPr>
              <p:cNvPr id="208" name="圆角矩形 13"/>
              <p:cNvSpPr/>
              <p:nvPr/>
            </p:nvSpPr>
            <p:spPr>
              <a:xfrm>
                <a:off x="1392120" y="1629720"/>
                <a:ext cx="7669440" cy="2054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．读下面的成语，并用加点的成语练习说话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面红耳赤  赞不绝口  大名鼎鼎  直截了当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相辅相成  形形色色  勇往直前  竭尽全力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任意多边形 14"/>
              <p:cNvSpPr/>
              <p:nvPr/>
            </p:nvSpPr>
            <p:spPr>
              <a:xfrm>
                <a:off x="1811160" y="1206720"/>
                <a:ext cx="1436760" cy="5094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积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0" name="椭圆 12"/>
            <p:cNvGrpSpPr/>
            <p:nvPr/>
          </p:nvGrpSpPr>
          <p:grpSpPr>
            <a:xfrm>
              <a:off x="1487880" y="1073160"/>
              <a:ext cx="755640" cy="719280"/>
              <a:chOff x="1487880" y="1073160"/>
              <a:chExt cx="755640" cy="719280"/>
            </a:xfrm>
          </p:grpSpPr>
          <p:pic>
            <p:nvPicPr>
              <p:cNvPr id="211" name="椭圆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487880" y="1073160"/>
                <a:ext cx="75564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1604160" y="1188000"/>
                <a:ext cx="51840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3" name="TextBox 15"/>
          <p:cNvSpPr/>
          <p:nvPr/>
        </p:nvSpPr>
        <p:spPr>
          <a:xfrm>
            <a:off x="912960" y="3713040"/>
            <a:ext cx="77295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读些成语，要注意“直截了当”的“截”读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é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，不要读成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ē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。用成语练习说话，要理解成语的意思，如“赞不绝口”的意思是不住口地称赞；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直截了当”的意思是形容客行简单爽快，不绕弯子而“竭尽全力”的意思是用尽全力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2"/>
          <p:cNvSpPr/>
          <p:nvPr/>
        </p:nvSpPr>
        <p:spPr>
          <a:xfrm>
            <a:off x="3017880" y="2532240"/>
            <a:ext cx="1563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.    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1"/>
          <p:cNvSpPr/>
          <p:nvPr/>
        </p:nvSpPr>
        <p:spPr>
          <a:xfrm>
            <a:off x="6099120" y="2532240"/>
            <a:ext cx="1563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.    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6"/>
          <p:cNvSpPr/>
          <p:nvPr/>
        </p:nvSpPr>
        <p:spPr>
          <a:xfrm>
            <a:off x="6049800" y="3143160"/>
            <a:ext cx="1563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.    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8"/>
          <p:cNvGrpSpPr/>
          <p:nvPr/>
        </p:nvGrpSpPr>
        <p:grpSpPr>
          <a:xfrm>
            <a:off x="600120" y="990720"/>
            <a:ext cx="8080200" cy="5508360"/>
            <a:chOff x="600120" y="990720"/>
            <a:chExt cx="8080200" cy="5508360"/>
          </a:xfrm>
        </p:grpSpPr>
        <p:sp>
          <p:nvSpPr>
            <p:cNvPr id="74" name="圆角矩形 4"/>
            <p:cNvSpPr/>
            <p:nvPr/>
          </p:nvSpPr>
          <p:spPr>
            <a:xfrm>
              <a:off x="600120" y="381708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母亲看到“我”写的诗后，是怎样的表现？又是如何评价的呢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圆角矩形 5"/>
            <p:cNvSpPr/>
            <p:nvPr/>
          </p:nvSpPr>
          <p:spPr>
            <a:xfrm>
              <a:off x="5224320" y="3806640"/>
              <a:ext cx="34560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“我”在等待父亲时有何表现？体现了“我”怎样的心情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6"/>
            <p:cNvSpPr/>
            <p:nvPr/>
          </p:nvSpPr>
          <p:spPr>
            <a:xfrm>
              <a:off x="5211720" y="5238720"/>
              <a:ext cx="3468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“我”后来从这件事中得到了怎样的感悟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7"/>
            <p:cNvSpPr/>
            <p:nvPr/>
          </p:nvSpPr>
          <p:spPr>
            <a:xfrm>
              <a:off x="600120" y="511920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父亲是如何评价“我”写的诗的？“我”又是怎样表现的呢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" name="组合 3"/>
            <p:cNvGrpSpPr/>
            <p:nvPr/>
          </p:nvGrpSpPr>
          <p:grpSpPr>
            <a:xfrm>
              <a:off x="2188080" y="990720"/>
              <a:ext cx="4767480" cy="5508360"/>
              <a:chOff x="2188080" y="990720"/>
              <a:chExt cx="4767480" cy="5508360"/>
            </a:xfrm>
          </p:grpSpPr>
          <p:pic>
            <p:nvPicPr>
              <p:cNvPr id="7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990720"/>
                <a:ext cx="4767480" cy="550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矩形 1"/>
              <p:cNvSpPr/>
              <p:nvPr/>
            </p:nvSpPr>
            <p:spPr>
              <a:xfrm>
                <a:off x="2553120" y="1783800"/>
                <a:ext cx="39308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你是如何理解父母亲“真美”和“真糟”的评价的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矩形 2"/>
              <p:cNvSpPr/>
              <p:nvPr/>
            </p:nvSpPr>
            <p:spPr>
              <a:xfrm>
                <a:off x="4499640" y="1258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爱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5"/>
          <p:cNvSpPr/>
          <p:nvPr/>
        </p:nvSpPr>
        <p:spPr>
          <a:xfrm>
            <a:off x="590400" y="2104920"/>
            <a:ext cx="817560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赞不绝口 ：西湖美丽的 风景使游人赞不绝口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直截了当：谁知道在路上他就直截了当地提出了问题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竭尽全力：我们要竭尽全力地办好这次联欢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7167"/>
          <p:cNvSpPr/>
          <p:nvPr/>
        </p:nvSpPr>
        <p:spPr>
          <a:xfrm>
            <a:off x="865080" y="2298600"/>
            <a:ext cx="754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为带点字选择正确的读音，打“√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埋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má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án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勉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qiá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qiǎ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呜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yā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è)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似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ì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7168"/>
          <p:cNvSpPr/>
          <p:nvPr/>
        </p:nvSpPr>
        <p:spPr>
          <a:xfrm>
            <a:off x="1595160" y="311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6"/>
          <p:cNvSpPr/>
          <p:nvPr/>
        </p:nvSpPr>
        <p:spPr>
          <a:xfrm>
            <a:off x="3180960" y="3133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3168000" y="3703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6"/>
          <p:cNvSpPr/>
          <p:nvPr/>
        </p:nvSpPr>
        <p:spPr>
          <a:xfrm>
            <a:off x="5154120" y="3703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6"/>
          <p:cNvSpPr/>
          <p:nvPr/>
        </p:nvSpPr>
        <p:spPr>
          <a:xfrm>
            <a:off x="6435360" y="315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7168"/>
          <p:cNvSpPr/>
          <p:nvPr/>
        </p:nvSpPr>
        <p:spPr>
          <a:xfrm>
            <a:off x="4663800" y="311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7168"/>
          <p:cNvSpPr/>
          <p:nvPr/>
        </p:nvSpPr>
        <p:spPr>
          <a:xfrm>
            <a:off x="1925640" y="363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7168"/>
          <p:cNvSpPr/>
          <p:nvPr/>
        </p:nvSpPr>
        <p:spPr>
          <a:xfrm>
            <a:off x="4378320" y="363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3726000" y="2790720"/>
          <a:ext cx="143964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26000" y="391788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749600" y="2790720"/>
          <a:ext cx="143964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749600" y="391788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矩形 3"/>
          <p:cNvSpPr/>
          <p:nvPr/>
        </p:nvSpPr>
        <p:spPr>
          <a:xfrm>
            <a:off x="1344600" y="170964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读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q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uà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hè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li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ín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à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ā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ɡāo     b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3"/>
          <p:cNvSpPr/>
          <p:nvPr/>
        </p:nvSpPr>
        <p:spPr>
          <a:xfrm>
            <a:off x="1966680" y="2833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奇 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14"/>
          <p:cNvSpPr/>
          <p:nvPr/>
        </p:nvSpPr>
        <p:spPr>
          <a:xfrm>
            <a:off x="1966680" y="3960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评 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25"/>
          <p:cNvSpPr/>
          <p:nvPr/>
        </p:nvSpPr>
        <p:spPr>
          <a:xfrm>
            <a:off x="3942360" y="2840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怨 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6"/>
          <p:cNvSpPr/>
          <p:nvPr/>
        </p:nvSpPr>
        <p:spPr>
          <a:xfrm>
            <a:off x="3951720" y="3944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 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802480" y="278604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802480" y="391320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矩形 15"/>
          <p:cNvSpPr/>
          <p:nvPr/>
        </p:nvSpPr>
        <p:spPr>
          <a:xfrm>
            <a:off x="6017760" y="2835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流 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7"/>
          <p:cNvSpPr/>
          <p:nvPr/>
        </p:nvSpPr>
        <p:spPr>
          <a:xfrm>
            <a:off x="6027480" y="3940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跋 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3"/>
          <p:cNvSpPr/>
          <p:nvPr/>
        </p:nvSpPr>
        <p:spPr>
          <a:xfrm>
            <a:off x="1104840" y="219240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下列词语书写全对的一组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遭糕　　固执　　相辅相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牢骚　　鼓励　　兴高彩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出售　　竭力　　争论不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"/>
          <p:cNvSpPr/>
          <p:nvPr/>
        </p:nvSpPr>
        <p:spPr>
          <a:xfrm>
            <a:off x="5857920" y="2340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2"/>
          <p:cNvSpPr/>
          <p:nvPr/>
        </p:nvSpPr>
        <p:spPr>
          <a:xfrm>
            <a:off x="1542960" y="1546200"/>
            <a:ext cx="717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补充词语，并用带点词语造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(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(   )     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(   )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赞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尽全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上，大家对刘飞老师的摄影作品赞不绝口。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4"/>
          <p:cNvSpPr/>
          <p:nvPr/>
        </p:nvSpPr>
        <p:spPr>
          <a:xfrm>
            <a:off x="2100960" y="221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7"/>
          <p:cNvSpPr/>
          <p:nvPr/>
        </p:nvSpPr>
        <p:spPr>
          <a:xfrm>
            <a:off x="3157560" y="2228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8"/>
          <p:cNvSpPr/>
          <p:nvPr/>
        </p:nvSpPr>
        <p:spPr>
          <a:xfrm>
            <a:off x="5316480" y="221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9"/>
          <p:cNvSpPr/>
          <p:nvPr/>
        </p:nvSpPr>
        <p:spPr>
          <a:xfrm>
            <a:off x="6064200" y="221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4701960" y="279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11"/>
          <p:cNvSpPr/>
          <p:nvPr/>
        </p:nvSpPr>
        <p:spPr>
          <a:xfrm>
            <a:off x="5769000" y="279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2395440" y="2797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3109680" y="2797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2379600" y="3332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3141360" y="332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5316480" y="3332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1806480" y="3867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5013360" y="3867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2715840" y="4392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展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4479840" y="333216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.   .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3"/>
          <p:cNvSpPr/>
          <p:nvPr/>
        </p:nvSpPr>
        <p:spPr>
          <a:xfrm>
            <a:off x="674640" y="1238400"/>
            <a:ext cx="7569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选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爸爸表面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不苟言笑，可我知道他非常疼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有一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父亲，他的警告和教育，使我不走向歧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老师对我们的要求一向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们要经得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考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2"/>
          <p:cNvSpPr/>
          <p:nvPr/>
        </p:nvSpPr>
        <p:spPr>
          <a:xfrm>
            <a:off x="2900520" y="1992240"/>
            <a:ext cx="3720960" cy="642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厉　严格　严峻　严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6"/>
          <p:cNvSpPr/>
          <p:nvPr/>
        </p:nvSpPr>
        <p:spPr>
          <a:xfrm>
            <a:off x="3312720" y="29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严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3028680" y="4137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严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5109840" y="5194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严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3547800" y="574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严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655560" y="19922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妈妈边读边嚷了起来：“真美！巴德，真的是你写的吗？”我</a:t>
            </a:r>
            <a:r>
              <a:rPr b="1" lang="zh-CN" sz="2400" spc="-1" strike="noStrike">
                <a:solidFill>
                  <a:srgbClr val="006699"/>
                </a:solidFill>
                <a:latin typeface="楷体"/>
                <a:ea typeface="楷体"/>
              </a:rPr>
              <a:t>面红耳赤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地承认了，心里充满了骄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组合 3"/>
          <p:cNvGrpSpPr/>
          <p:nvPr/>
        </p:nvGrpSpPr>
        <p:grpSpPr>
          <a:xfrm>
            <a:off x="793800" y="3336840"/>
            <a:ext cx="7683480" cy="558720"/>
            <a:chOff x="793800" y="3336840"/>
            <a:chExt cx="7683480" cy="558720"/>
          </a:xfrm>
        </p:grpSpPr>
        <p:sp>
          <p:nvSpPr>
            <p:cNvPr id="84" name="直接连接符 4"/>
            <p:cNvSpPr/>
            <p:nvPr/>
          </p:nvSpPr>
          <p:spPr>
            <a:xfrm>
              <a:off x="793800" y="38955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任意多边形 5"/>
            <p:cNvSpPr/>
            <p:nvPr/>
          </p:nvSpPr>
          <p:spPr>
            <a:xfrm>
              <a:off x="793800" y="333684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“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面红耳赤”说明了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矩形 1"/>
          <p:cNvSpPr/>
          <p:nvPr/>
        </p:nvSpPr>
        <p:spPr>
          <a:xfrm>
            <a:off x="806400" y="4100400"/>
            <a:ext cx="77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面红耳赤”是神态描写，形象地写出了“我”听到母亲赞扬时害羞而又自豪的心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21"/>
          <p:cNvSpPr/>
          <p:nvPr/>
        </p:nvSpPr>
        <p:spPr>
          <a:xfrm>
            <a:off x="831960" y="148428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神态描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3"/>
          <p:cNvSpPr/>
          <p:nvPr/>
        </p:nvSpPr>
        <p:spPr>
          <a:xfrm>
            <a:off x="903240" y="2367000"/>
            <a:ext cx="734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什么是神态描写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神态描写就是对人物脸部表情进行描写，描写时要用表示表情、神态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神态描写的答题模式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对人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情描写，表现人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象（特点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线连接符 7"/>
          <p:cNvSpPr/>
          <p:nvPr/>
        </p:nvSpPr>
        <p:spPr>
          <a:xfrm>
            <a:off x="914400" y="240840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378000" y="1303200"/>
            <a:ext cx="842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感到庆幸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从孩提时代起，就既有爱说“真美”的母亲，又有爱说“真糟”的父亲。是他们教会了我如何对待形形色色的“肯定”和“否定”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先我得不惧怕批评，不管这些否定意见来自何方，也不管这样“宣判”多么令人心碎，我决不能因为别人的否定而丧失勇往直前的勇气；而另一方面，我又得在一片赞扬声中克服内心深处的自我陶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2607840" y="397188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两个破折号都表示解释说明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0"/>
          <p:cNvSpPr/>
          <p:nvPr/>
        </p:nvSpPr>
        <p:spPr>
          <a:xfrm>
            <a:off x="523800" y="3989520"/>
            <a:ext cx="8274240" cy="703800"/>
          </a:xfrm>
          <a:prstGeom prst="rect">
            <a:avLst/>
          </a:prstGeom>
          <a:solidFill>
            <a:srgbClr val="dbe1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第一个解释了“我”感到庆幸的原因：是爱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真美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的母亲和爱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真糟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的父亲教会了“我”如何对待形形色色的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肯定”和“否定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517680" y="4915080"/>
            <a:ext cx="8273880" cy="398880"/>
          </a:xfrm>
          <a:prstGeom prst="rect">
            <a:avLst/>
          </a:prstGeom>
          <a:solidFill>
            <a:srgbClr val="dbe1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第二个解释了对待形形色色的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肯定”和“否定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的正确态度：一方面要“不惧怕批评”，不能因为别人的否定而丧失勇往直前的勇气；另一方面要保持清醒的头脑，不能在赞扬声中自我陶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885960" y="1827360"/>
            <a:ext cx="768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仿写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请你写出三个“形形色色”这样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AB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式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24" descr="花盆.png"/>
          <p:cNvPicPr/>
          <p:nvPr/>
        </p:nvPicPr>
        <p:blipFill>
          <a:blip r:embed="rId1"/>
          <a:stretch/>
        </p:blipFill>
        <p:spPr>
          <a:xfrm>
            <a:off x="642960" y="19810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96" name="矩形 2"/>
          <p:cNvSpPr/>
          <p:nvPr/>
        </p:nvSpPr>
        <p:spPr>
          <a:xfrm>
            <a:off x="982800" y="2917800"/>
            <a:ext cx="68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千千万万 洋洋洒洒 家家户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98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句子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9"/>
          <p:cNvSpPr/>
          <p:nvPr/>
        </p:nvSpPr>
        <p:spPr>
          <a:xfrm>
            <a:off x="1044720" y="3780000"/>
            <a:ext cx="610920" cy="353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8"/>
          <p:cNvSpPr/>
          <p:nvPr/>
        </p:nvSpPr>
        <p:spPr>
          <a:xfrm>
            <a:off x="5356080" y="3209760"/>
            <a:ext cx="1108080" cy="35424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617400" y="1940040"/>
            <a:ext cx="81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美！”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糟！”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些似乎完全对立又相辅相成的话语，一直伴随着我在人生的道路上跋涉。它们就像两股方向相反的风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得竭尽全力在这两股强风中驾稳我的风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741240" y="4324320"/>
            <a:ext cx="7596360" cy="1099080"/>
          </a:xfrm>
          <a:prstGeom prst="rect">
            <a:avLst/>
          </a:prstGeom>
          <a:solidFill>
            <a:srgbClr val="dce6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竭尽全力”“驾稳”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等词，表现了“我”自信心强、有能力，没有因赞扬声而骄傲自满，迷失方向，也没有被批评声而吓倒，丧失信心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云形 6"/>
          <p:cNvGrpSpPr/>
          <p:nvPr/>
        </p:nvGrpSpPr>
        <p:grpSpPr>
          <a:xfrm>
            <a:off x="5553000" y="1212840"/>
            <a:ext cx="2932200" cy="987480"/>
            <a:chOff x="5553000" y="1212840"/>
            <a:chExt cx="2932200" cy="987480"/>
          </a:xfrm>
        </p:grpSpPr>
        <p:pic>
          <p:nvPicPr>
            <p:cNvPr id="105" name="云形 6" descr=""/>
            <p:cNvPicPr/>
            <p:nvPr/>
          </p:nvPicPr>
          <p:blipFill>
            <a:blip r:embed="rId1"/>
            <a:stretch/>
          </p:blipFill>
          <p:spPr>
            <a:xfrm>
              <a:off x="5553000" y="1212840"/>
              <a:ext cx="29322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377760" y="1438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全文的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矩形 2"/>
          <p:cNvSpPr/>
          <p:nvPr/>
        </p:nvSpPr>
        <p:spPr>
          <a:xfrm>
            <a:off x="1249200" y="4432320"/>
            <a:ext cx="72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运用了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比喻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修辞手法，在最后点明了全文的主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内容占位符 2"/>
          <p:cNvSpPr/>
          <p:nvPr/>
        </p:nvSpPr>
        <p:spPr>
          <a:xfrm>
            <a:off x="523800" y="2112840"/>
            <a:ext cx="22035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922320" y="3409920"/>
            <a:ext cx="76248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母亲对“我”的诗的评价是感情化了的。母亲赞赏的是“我”写诗的行为，并不多想诗本身的质量如何，想以此来鼓励“我”。父亲关注的不是“我”写诗的行为，而是诗本身的质量。在评价时，父亲丝毫没有考虑“我”内心的感受   及“我”的承受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851040" y="2703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是如何理解父母亲“真美”和“真糟”的评价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6:27:58Z</dcterms:modified>
  <cp:revision>4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